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54C-A7DF-4468-9660-24917F79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B55-9FF6-4C47-B3B6-3286A0AF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452-A111-4DB9-BC6D-7D542E33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7B1-18D5-40E3-AAF1-0AF5869D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6403-6432-4537-815D-FAAAB414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6636-6EFE-4FA7-AE6F-E3E732EE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0921-D688-474B-B22F-E00EF92C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25C1-7EDF-4197-8A15-46EAED24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A95F-B29F-4C1D-B538-7EA781A0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8122-F764-47B0-96C0-87994C6B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F8E9-1236-4564-A765-B58448C2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F32-8E67-4A63-87AC-B9269FA8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99D0-182B-4161-B25B-22BCAFFA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D7B6-4272-4917-93EE-C09B5F44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7C8C-2F71-4345-AA2D-779C9CDD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BCBF-6A13-41A3-B5B5-0B689361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AC31-AD6D-4847-BAE8-2AE467A4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EE7-26E6-4A5E-8E63-6696BE27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807-E69B-489A-B1F7-1ACCD979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90D-F8BC-4883-A36B-D3E0D924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E08-ECBE-4463-83E4-CB0E922C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4CD-ED6C-432A-BF2A-B58A2DBE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E92A-8940-468A-9835-31A6F0A7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1BE-2CC4-4BBD-B977-13F355A4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FDA8-0A2D-49FD-8AA7-D0BB0EF49B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D9F0-2EA0-46D0-8890-E72AEE74CC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hyperlink" Target="http://www.brainpop.com/video_tutorials/brainpop_on_an_interactive_whiteboard/" TargetMode="External"/><Relationship Id="rId16" Type="http://schemas.openxmlformats.org/officeDocument/2006/relationships/hyperlink" Target="http://www.brainpop.com/video_tutorials/activotes/index.weml" TargetMode="External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8.jpeg"/><Relationship Id="rId2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s://secure.brainpop.com/help/subscription_options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omic Sans MS"/>
              </a:rPr>
              <a:t>Technology Initiativ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y: Kristy Hank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64796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91440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Are our students really engaged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can we keep our students engaged and excited about our less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can we increase student achieve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technology help me get my students excited about lear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410080" y="1143000"/>
            <a:ext cx="2590920" cy="2095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724280" y="4419720"/>
            <a:ext cx="35053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562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What is BrainPOP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nimated curriculum based content that supports educators and engages stud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lso available 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rainPOP Jr. (k-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rainPOP Esp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ñ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rainPOP Educa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sources Includ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ovie Cli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Quizz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peri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imeli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ctivity P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an be used in many content are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anguage A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eal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rt/Mus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echn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2095560" cy="1981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57600" y="259092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  <a:ea typeface="Arial"/>
              </a:rPr>
              <a:t>How can BrainPOP be us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3581280"/>
            <a:ext cx="47242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ntroducing a new lesson or top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llustrating complex subject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Review before a 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ummarize a concept previously tau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ngage Stud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mprove Student Achiev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27939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Teacher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3124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rainPOP Educ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esson Pl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ideo Tuto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l lessons align with state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ctivity She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aphic Organiz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1840" y="837720"/>
            <a:ext cx="2971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teractive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teractive Word W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izz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ideo Tuto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lates topics to the real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YI Read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81480" y="5486400"/>
          <a:ext cx="4635360" cy="1158840"/>
        </p:xfrm>
        <a:graphic>
          <a:graphicData uri="http://schemas.openxmlformats.org/drawingml/2006/table">
            <a:tbl>
              <a:tblPr/>
              <a:tblGrid>
                <a:gridCol w="463536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deo Tutorials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200400" y="3429000"/>
          <a:ext cx="2286000" cy="70020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9900"/>
                          </a:solidFill>
                          <a:latin typeface="Comic Sans MS"/>
                          <a:ea typeface="Arial"/>
                        </a:rPr>
                        <a:t>Parent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952880" y="5638680"/>
          <a:ext cx="4616640" cy="911520"/>
        </p:xfrm>
        <a:graphic>
          <a:graphicData uri="http://schemas.openxmlformats.org/drawingml/2006/table">
            <a:tbl>
              <a:tblPr/>
              <a:tblGrid>
                <a:gridCol w="979560"/>
                <a:gridCol w="36370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5"/>
                        </a:rPr>
                        <a:t>BrainPOP on an Interactive Whitebo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6"/>
                        </a:rPr>
                        <a:t>Using BrainPOP With Electronic Voting Devi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" descr=""/>
          <p:cNvPicPr/>
          <p:nvPr/>
        </p:nvPicPr>
        <p:blipFill>
          <a:blip r:embed="rId17"/>
          <a:stretch/>
        </p:blipFill>
        <p:spPr>
          <a:xfrm>
            <a:off x="5486400" y="579132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8"/>
          <a:stretch/>
        </p:blipFill>
        <p:spPr>
          <a:xfrm>
            <a:off x="5486400" y="6172200"/>
            <a:ext cx="237960" cy="237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324480" y="304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  <a:ea typeface="Arial"/>
              </a:rPr>
              <a:t>Stud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3962520"/>
            <a:ext cx="6477120" cy="32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Access to al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Great for reviewing concep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Children who are more excited about lear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24/7 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Family 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After-Hours 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5"/>
          <a:stretch/>
        </p:blipFill>
        <p:spPr>
          <a:xfrm>
            <a:off x="3505320" y="533520"/>
            <a:ext cx="24573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05280" y="304560"/>
            <a:ext cx="49532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How much does it cos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95680" y="-381240"/>
            <a:ext cx="4648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room -- $1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dia Lab -- $5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hool -- $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strict – Prices V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8680" y="2666880"/>
            <a:ext cx="624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  <a:ea typeface="Arial"/>
              </a:rPr>
              <a:t>What do I need to d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429000"/>
            <a:ext cx="8839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ttend monthly meetings for training ses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very other month after faculty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very other month as 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valuate student test scores to check for improv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lassroom observations/vide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mplete survey at the end of the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1904760" cy="1425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696080" y="2438280"/>
            <a:ext cx="1447920" cy="2362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09680" y="1905120"/>
            <a:ext cx="6782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1905120"/>
            <a:ext cx="609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3"/>
              </a:rPr>
              <a:t>https://secure.brainpop.com/help/subscription_options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9:54:47Z</dcterms:created>
  <dc:creator>KEMERSON</dc:creator>
  <dc:description/>
  <dc:language>en-US</dc:language>
  <cp:lastModifiedBy>Kristy Hankins</cp:lastModifiedBy>
  <dcterms:modified xsi:type="dcterms:W3CDTF">2010-08-19T17:52:37Z</dcterms:modified>
  <cp:revision>5</cp:revision>
  <dc:subject/>
  <dc:title>BrainPOP</dc:title>
</cp:coreProperties>
</file>